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3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4D5-7B44-4547-889E-F29B7EDB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BC3-A37A-4BFA-AE01-A1D9D94F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338-AE1F-46A9-932C-409CCC62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D9E-1C84-4EE8-BF2B-D841CE44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2670-1B3D-428B-804A-369AC2AC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E83D-C646-4CBF-A58E-EFF24A86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E9F3-D2AA-40B3-BA2A-A9A6F00F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722A-E2C5-4475-B859-B425C90E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DB00-F246-4324-B9A3-29746C45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4AEB-B34E-4C82-AE5F-D1218D89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5E05-8D4B-4DDE-94E8-D9143253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29F-AF51-4700-9E47-52741DCE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67D6-6431-4C1C-BE65-78E34464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EA47-216B-4F4A-B98D-71C84987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CCDB-C877-4AB7-B949-68821F40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CD76-4FF3-4168-B37F-145260F3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8E59-580E-4055-B073-5621B71C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B55-9DBA-4FD3-A4FC-6860DEB1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435-19EB-43C0-BEFC-315CC94D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B16-15CA-4A32-96BF-F6146A53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D49-A246-4926-99B9-091B43B1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089-619A-4FB1-9413-554B5EE9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AC2-3082-4564-ACBB-0527C61F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C33-D6E9-4ACF-A592-F2C1A729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0293-764F-4B90-8EFA-8C949012B9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5056-48F4-4EB0-8878-06F9E9180B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166480"/>
            <a:ext cx="8762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67040"/>
            <a:ext cx="8915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МЫШ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7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ДУШЕВНЫЙ ПОКОЙ И ИСЦЕ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ОМОЩЬ ДРУГИМ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ДОВЕРИЕ БОГ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ХРИСТОС В СЕРДЦ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j0260360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СЕМЬ КЛЮЧЕЙ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121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24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РЕАКЦИЯ ОРГАНИЗМА НА ВНЕЗАПНЫЙ СТРЕССОР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hm00246_" descr=""/>
          <p:cNvPicPr/>
          <p:nvPr/>
        </p:nvPicPr>
        <p:blipFill>
          <a:blip r:embed="rId17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СТАДИИ СТРЕСС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ОЛЕЗНИ СВЯЗАННЫЕ СО СТРЕССОМ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83160"/>
            <a:ext cx="79246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РАЗУМНОЕ ПРИСПОСОБЛЕ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940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ЗДОРОВЫЙ ОБРАЗ </a:t>
            </a: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ЖИЗН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8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ЛАНИРОВА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НЕ БЕСПОКОЙТЕСЬ О БУДУЩЕМ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2:53:51Z</dcterms:created>
  <dc:creator>Ostapenco</dc:creator>
  <dc:description/>
  <dc:language>en-US</dc:language>
  <cp:lastModifiedBy>Our Home</cp:lastModifiedBy>
  <dcterms:modified xsi:type="dcterms:W3CDTF">2001-04-08T15:49:49Z</dcterms:modified>
  <cp:revision>30</cp:revision>
  <dc:subject/>
  <dc:title>СТРЕСС</dc:title>
</cp:coreProperties>
</file>